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47053"/>
        <c:axId val="58660853"/>
      </c:barChart>
      <c:catAx>
        <c:axId val="17547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60853"/>
        <c:crosses val="autoZero"/>
        <c:auto val="1"/>
        <c:lblAlgn val="ctr"/>
        <c:lblOffset val="100"/>
        <c:noMultiLvlLbl val="0"/>
      </c:catAx>
      <c:valAx>
        <c:axId val="58660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47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CEA-A86C-406F-BD40-EA31950E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491-1C59-42DB-80EB-F5A94925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D7F-1B27-49F4-A0A4-B6559316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F2F-C707-45F0-8707-C6F735CD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357-4D99-4E9E-877D-CCC01C60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EEE-64B4-41EA-A141-AC49D61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48A-BFC2-473B-ACA3-E95DFEB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6C5-4C25-413E-9DB9-7BA5A4C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B5F-ABD6-4D22-BCA7-7E88F9EC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386-6842-4504-93C3-67AB02E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CD4-0547-4740-8DFD-860A3AD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29C-EEC3-4FE0-8DE7-DF9EB8E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B4206-EABC-4EC5-8306-DC290BB55C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