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22316"/>
        <c:axId val="46810400"/>
      </c:barChart>
      <c:catAx>
        <c:axId val="48722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10400"/>
        <c:crosses val="autoZero"/>
        <c:auto val="1"/>
        <c:lblAlgn val="ctr"/>
        <c:lblOffset val="100"/>
        <c:noMultiLvlLbl val="0"/>
      </c:catAx>
      <c:valAx>
        <c:axId val="46810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22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2E7-66EF-4608-A685-C8C16051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34B-DD08-469F-B852-4CF71BEB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BAD-83BF-480F-8F54-DC4B5E08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A4F-A936-40C0-B575-98699AFF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7B0-36A3-4A91-B625-779880A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379-9125-4188-88F6-27CED04C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19C-00E2-40DB-9ABD-347C2C30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CB0-2B30-4456-8074-2B8FFD9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B1B-F636-47A0-8966-F023A550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C28-7EBE-4242-8537-37C778B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20A-74F3-44AB-AA84-246F115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AC9-66F0-432F-A55D-EEC456D9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2E1AC-BB40-4FDA-9D8F-1304041E32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