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5299"/>
        <c:axId val="59597799"/>
      </c:barChart>
      <c:catAx>
        <c:axId val="37145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97799"/>
        <c:crosses val="autoZero"/>
        <c:auto val="1"/>
        <c:lblAlgn val="ctr"/>
        <c:lblOffset val="100"/>
        <c:noMultiLvlLbl val="0"/>
      </c:catAx>
      <c:valAx>
        <c:axId val="5959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5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07B-0AC4-4745-AA85-CE5F173E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CD5-6590-4293-8315-A237D34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3D0-E287-455E-A1A0-8AC0C828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B1-7712-4B17-B6CB-68CB3FED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F61-221A-43B7-9C58-3BE7A737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1B5-FA9D-492B-93AA-6D5717E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81E-41A8-4BA6-B77A-E6A0BC3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D9B-4E65-49AA-A258-0253397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330-E196-4AA7-9C5D-2A89BD6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3C-BF4E-4054-BABE-20326E72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937-FCE2-41CB-80A5-0CCAE46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BB7-BF89-4D35-801D-08C036D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CACED-4F44-4005-BB6D-05E3D745B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