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90255"/>
        <c:axId val="71080573"/>
      </c:barChart>
      <c:catAx>
        <c:axId val="61190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80573"/>
        <c:crosses val="autoZero"/>
        <c:auto val="1"/>
        <c:lblAlgn val="ctr"/>
        <c:lblOffset val="100"/>
        <c:noMultiLvlLbl val="0"/>
      </c:catAx>
      <c:valAx>
        <c:axId val="71080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90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A39-4528-4797-A4D0-320AED9C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58D-21B5-43E2-B6E1-DD388757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5B3-3C81-43C2-97A2-4C7E386D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BF7-A040-4901-8670-F3165048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AD3-6CB5-4D29-AB85-35870A3E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2BA-54BE-452D-A06F-909972F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8AD-F8A5-40A8-952A-D473CFE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3B3-43FE-4C78-B134-344DECE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B7-C606-49C8-8DBB-80C657C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0B7-B118-4B41-9B32-F700F05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3E1-0D06-4517-880A-414B3AD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572-AB54-42A6-8B97-59A2B05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E9A33-B1BD-47CF-A99A-F94C05C2F5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