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300038"/>
        <c:axId val="35488216"/>
      </c:barChart>
      <c:catAx>
        <c:axId val="823000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488216"/>
        <c:crosses val="autoZero"/>
        <c:auto val="1"/>
        <c:lblAlgn val="ctr"/>
        <c:lblOffset val="100"/>
        <c:noMultiLvlLbl val="0"/>
      </c:catAx>
      <c:valAx>
        <c:axId val="354882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3000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D0A0-804C-4324-AC38-D7A3733B9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D03E-8139-4C31-B5B2-14FED7CC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BAB5-C3DE-420C-A275-97633CDBB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EC97-7C09-4761-BE8F-5A4DB4242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DB29-651E-446A-B4C8-2AD7E443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7766-4C1C-4228-AA98-9461A3C3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EA1D-A78E-49A5-9BBC-0ECCF140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86A6-05F5-45C0-A4B1-94B07605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9EBD-6D6A-43DA-9563-A6FE4B62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4410-BBD2-423E-A256-291D5567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A635-D0E9-491D-9BAC-45A8B109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1377-D3F2-4E83-AE4B-7CEDA33B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503BD-918B-4A7F-816E-7D48858ED4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