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538967"/>
        <c:axId val="19528614"/>
      </c:barChart>
      <c:catAx>
        <c:axId val="45538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28614"/>
        <c:crosses val="autoZero"/>
        <c:auto val="1"/>
        <c:lblAlgn val="ctr"/>
        <c:lblOffset val="100"/>
        <c:noMultiLvlLbl val="0"/>
      </c:catAx>
      <c:valAx>
        <c:axId val="19528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38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F697-6C27-41E0-8C9D-2D5815EC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5804-F3A6-4DDB-9A35-770A706A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0AA-886D-46FA-AF2D-6F16B4FC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2CCA-C743-40A3-9A1D-4A24D769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C913-A70D-4459-8C0D-DA372ACA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5BD0-6B0A-46C2-A5BA-75E5F99A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FE7F-23B3-4BE9-97D5-8C953799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7A9-12B4-4B8B-816B-B6F655F8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BECF-65B2-4555-AB2A-C99E229E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011-0015-4820-981D-F4C1ACF2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53B9-D1A0-4A7A-9049-B5ABF094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87C-6292-49DC-B258-E0A50873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DA8B1-3687-47C8-8160-9D8F201CB8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