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21843"/>
        <c:axId val="64039037"/>
      </c:barChart>
      <c:catAx>
        <c:axId val="13721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39037"/>
        <c:crosses val="autoZero"/>
        <c:auto val="1"/>
        <c:lblAlgn val="ctr"/>
        <c:lblOffset val="100"/>
        <c:noMultiLvlLbl val="0"/>
      </c:catAx>
      <c:valAx>
        <c:axId val="64039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21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F70-FE7F-4BE6-87EF-C4E47315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547-8454-440E-BAFB-C4B7670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7E8-DA45-4334-AD9A-7992EE95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6EC-4E03-4602-A063-1B44349D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DAF-55E2-43FE-BE1B-AD87BFD9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F98-3BED-443E-972A-E1404DB2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B9B-7A5D-4CF0-932C-5E1122B5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AFB-CC68-4579-9E79-9EAE325E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659-A2F2-428B-A56D-DE958643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B80-B887-4BCF-9E9E-62F5C93C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E1B-B16C-4CA8-B663-92473148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6E9-7CB8-4E5E-BBEE-1A765B04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3F3BE-439A-454C-91D9-770A930573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