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88839"/>
        <c:axId val="23487616"/>
      </c:barChart>
      <c:catAx>
        <c:axId val="9328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87616"/>
        <c:crosses val="autoZero"/>
        <c:auto val="1"/>
        <c:lblAlgn val="ctr"/>
        <c:lblOffset val="100"/>
        <c:noMultiLvlLbl val="0"/>
      </c:catAx>
      <c:valAx>
        <c:axId val="23487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8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168-714B-4113-B405-A2324C5A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2C7E-2545-426D-BE48-79141EDB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1D7-4EF3-4D1B-93A1-F350766B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CF4-09D4-4652-8852-BA88B9BF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337-0731-4F61-9733-461064C1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0D1-0594-48AA-BDB4-FCA4D82C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0C0-DC1F-4E11-B2A2-173CCAE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2B9-7767-40B2-BC75-3E0D7B05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FBC-7233-4C95-9285-A9843C2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B20-4712-4817-8A5A-FED86CFA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069-293B-4B4B-8520-BE941EF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691-54E1-4B2F-B68D-EC3990E4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B392B-BBC8-4C20-9299-D693853778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