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81645"/>
        <c:axId val="3110525"/>
      </c:barChart>
      <c:catAx>
        <c:axId val="10681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0525"/>
        <c:crosses val="autoZero"/>
        <c:auto val="1"/>
        <c:lblAlgn val="ctr"/>
        <c:lblOffset val="100"/>
        <c:noMultiLvlLbl val="0"/>
      </c:catAx>
      <c:valAx>
        <c:axId val="3110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81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986-B9C4-4AEB-A67A-84395A43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401-D18C-4A85-9C88-9430041C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48F-D53F-4682-B8F6-12D5415E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D5B-E625-4A17-B71B-31557690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16A-F781-4AEF-BD28-14A33AE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9EC-8A47-4F74-9AC2-B475B0B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E90-DF39-4275-AB16-1C4BDB20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5E4-6F99-4E8B-9C78-31A0BA6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127-5831-4923-9EFC-6526A2D4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406-5CDD-42C5-AF5E-1914167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DAF-EE7D-4632-94CD-301AF66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A60-021C-4684-962C-C57F133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7B7A7-8EEC-4003-B9C5-644C1F6476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