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4806283"/>
        <c:axId val="44388680"/>
      </c:barChart>
      <c:catAx>
        <c:axId val="2480628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4388680"/>
        <c:crosses val="autoZero"/>
        <c:auto val="1"/>
        <c:lblAlgn val="ctr"/>
        <c:lblOffset val="100"/>
        <c:noMultiLvlLbl val="0"/>
      </c:catAx>
      <c:valAx>
        <c:axId val="4438868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480628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09EE5-D978-4B85-B269-0A0E1664A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48981-36B6-4585-BDAD-AEBF6A8E9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16971-71FB-4818-BEB5-17AF70BD3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A1065-36DD-4556-9499-52EA0BF22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FB3C2-B8E9-4850-93DE-721F1CAA9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8582F-D083-4117-A11C-F7D17AE18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5631C-3CF6-4916-8D1E-ACB69C8EB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2889E-8D27-4AD9-9970-8C1F210C9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AF6EC-5BC7-4A77-B7DA-A8C00029C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55DE1-4DD2-4B4E-A267-D1D53BBC7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C7E0F-4472-48A1-AB7D-20E45BAE1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C1DFF-08E9-488F-BE8C-204EDD6AF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C4283F-2975-411C-9333-DCBEC7BE80A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