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887912"/>
        <c:axId val="69006078"/>
      </c:barChart>
      <c:catAx>
        <c:axId val="928879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006078"/>
        <c:crosses val="autoZero"/>
        <c:auto val="1"/>
        <c:lblAlgn val="ctr"/>
        <c:lblOffset val="100"/>
        <c:noMultiLvlLbl val="0"/>
      </c:catAx>
      <c:valAx>
        <c:axId val="690060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879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459A-8BFB-4F31-9798-276918A39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CF39-12F5-4378-92AE-DD94C304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DF03-69B8-46F6-8D1D-4DE2A86D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F39B-527B-49E9-A74E-7B2C5C9B4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5975-3848-411B-853A-BE98B9441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6DD1-FCD6-49E5-9168-D1D1EEBE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8602-3785-455F-B9D6-A73DA510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1141-B3F3-4A84-A157-23BAB491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B1C6-0ABF-4CBB-B567-E34B7F34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8EC8-E9FF-4682-95F0-E141434C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7BA2-838E-467C-9C79-74274065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EE3B-76BA-4672-98E4-64D7D29A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3C1155-4C55-4610-A972-42BE0056E4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