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92022"/>
        <c:axId val="54398633"/>
      </c:barChart>
      <c:catAx>
        <c:axId val="45292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98633"/>
        <c:crosses val="autoZero"/>
        <c:auto val="1"/>
        <c:lblAlgn val="ctr"/>
        <c:lblOffset val="100"/>
        <c:noMultiLvlLbl val="0"/>
      </c:catAx>
      <c:valAx>
        <c:axId val="54398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92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7BC-A938-4D35-8D79-399A8064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A09-B0DD-40C6-A75E-EE3835CE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D00-F4A6-4B8A-9786-3DA90648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FDA-D19D-42D2-B9C2-C317A6EF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043-1398-4773-8726-D622C518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BD0-4B39-4632-88FA-6C2DCE53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905-F842-434C-A854-A4D47FF0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ED0-22D1-484C-BAA4-4839F2CA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192-F5A8-43AD-B5B4-A5184A74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7E6-E9AB-4D5C-AD58-7E0D2767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39E-7ACC-4338-A3CA-5C22B7B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543-8F0E-433F-87F4-131B0E0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9B763-154B-4DA4-96FA-F0A30C376A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