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08639"/>
        <c:axId val="64991809"/>
      </c:barChart>
      <c:catAx>
        <c:axId val="198086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91809"/>
        <c:crosses val="autoZero"/>
        <c:auto val="1"/>
        <c:lblAlgn val="ctr"/>
        <c:lblOffset val="100"/>
        <c:noMultiLvlLbl val="0"/>
      </c:catAx>
      <c:valAx>
        <c:axId val="649918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086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86A5-01BB-488B-A767-B184DDD5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A6B2-99D9-4B60-A32E-7D8C29EC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EA7-6021-4B58-9292-C7956076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589B-47AB-42A5-A401-0866C691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F5F7-854B-40D0-AB78-27C40E52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A58A-21E2-4E4B-BBD4-A57A0DC7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E355-7992-4B89-87EB-7E389EA8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AA3C-5613-41B0-BE65-0AC681AF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4C69-A9EC-427F-B957-3F24AF45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91D9-F6B7-48ED-8D81-F1039EB5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DB79-9E07-44CE-8767-7CE6AAA5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5392-E4E1-4DE2-BF46-C7930A1C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BCE36-E3CB-483E-890E-DC27E8F54E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