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6908443"/>
        <c:axId val="73381926"/>
      </c:barChart>
      <c:catAx>
        <c:axId val="3690844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381926"/>
        <c:crosses val="autoZero"/>
        <c:auto val="1"/>
        <c:lblAlgn val="ctr"/>
        <c:lblOffset val="100"/>
        <c:noMultiLvlLbl val="0"/>
      </c:catAx>
      <c:valAx>
        <c:axId val="7338192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90844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0A72-6B7A-46C7-823D-9E52FAD2F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08D4-1DFD-4535-9D5B-0C83C46D0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0145-C8FA-4CA5-9711-9B0A86533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90CF-E758-49A1-AA22-A465EA349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0B21-0C0E-4372-AB42-F4CF0DED1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BB7C-07F7-4B9C-964C-46FC757A0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2BFA-D0F2-4CE9-9448-E8C4B7B3F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E9E1-736B-4838-8402-7DC9BA4CA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840B-2823-4DC1-8FD3-C2EC442C6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F026-4AF0-4329-B7B3-153C4627E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FF03-5533-4669-87A8-84E695AB5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73B5-8063-4D00-8521-F6A727E91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BACE70-896C-4881-93FE-EAFB9B58774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