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68579"/>
        <c:axId val="98344049"/>
      </c:barChart>
      <c:catAx>
        <c:axId val="17468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44049"/>
        <c:crosses val="autoZero"/>
        <c:auto val="1"/>
        <c:lblAlgn val="ctr"/>
        <c:lblOffset val="100"/>
        <c:noMultiLvlLbl val="0"/>
      </c:catAx>
      <c:valAx>
        <c:axId val="98344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68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90A-955A-44A5-8326-BA103ACE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9EC-6725-4B38-9FCB-136ED272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5AF-5574-43CB-ADC9-A544D8CA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B2D-758B-4586-953B-70284E9E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A65-0C68-4D47-B7F1-1F9BAC64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5A7-2167-4BED-BA85-144561B9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0AB-E894-42E6-98A6-E650332D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2AD-FB8E-4B28-ADCB-F9EF005E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61F-65F1-4D77-B2A3-3DD83B66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8B7-8611-42FA-9092-6D389A5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D14-8998-41AA-AD50-03E55603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8E5-FBC3-4B28-803D-A606A8E8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D5792-EC91-44A0-A76C-714851EE9C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